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5DD7-CE64-47EF-93EE-F47EDDF4F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42B8-910A-4064-B413-5108E128C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AA31-900A-49C2-A041-24131A4DB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4533-2065-4EA9-B195-7085377F6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8ED54-901C-489A-BDB7-7ABC712BE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1A7D2-1D1A-468D-9A4A-81F0C2569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87999-C9DA-4E27-AB9B-503D3C7F0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CD822-541D-400A-870F-F99B6933B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8574C-43A0-420F-8C02-4BBBB25CA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CEEBA-C0C3-4375-ACEC-1F6E28B14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1276E-02CE-4549-8BCE-68658E34B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7C37-FC72-4647-AAE9-FDE7AC577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FF7BA-AB16-41A7-91EF-A7382EBD8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F8E4E-BC4A-46C0-8F26-8556A0A2B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8EACB-2648-4BCC-8743-B3A6587B3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66F3D-ECEE-4F7B-95CD-5F9D16385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604B7-069D-4058-A590-2FEDD2C55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E32D-9CF6-4FE9-89DD-D9CAA41E9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FE31-F531-463C-9731-707B7C28F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A549-9EA6-422C-B675-794D3863C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D2DC-CEAD-48B6-A7F6-E420DE4C3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9A4A-9D0E-4F2A-81D7-E1C16B970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E9B9-D83F-428E-AFDE-3BE3FBB1C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14C8-424F-4F72-86C8-1CDC6E2C5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92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92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92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935CC-5CF5-4BBD-BA54-C82110FB4B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8" name="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09" name="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pic>
          <p:nvPicPr>
            <p:cNvPr id="157" name="" descr="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pic>
          <p:nvPicPr>
            <p:cNvPr id="283" name="" descr="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533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2000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BFB65-8C8A-491D-AE20-7760129824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362320" y="1828800"/>
            <a:ext cx="5410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Culture</a:t>
            </a:r>
            <a:endParaRPr b="0" i="1" lang="en-US" sz="6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73915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aterial and Non-Material Cultur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Journal Questions: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do you own that would tell an alien you are Canadia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bout things you d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6600"/>
                </a:solidFill>
                <a:latin typeface="Times New Roman"/>
              </a:rPr>
              <a:t>Material Cultur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ysical objects produced and/or used by the society to which you belo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g. Comb, money, photos, library card, sandwi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hropologists studies these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6600"/>
                </a:solidFill>
                <a:latin typeface="Times New Roman"/>
              </a:rPr>
              <a:t>Non-Material Cultur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ements of culture that are not physic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g. Spoken language, ideas, stories, myth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hropologists study these thin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6600"/>
                </a:solidFill>
                <a:latin typeface="Times New Roman"/>
              </a:rPr>
              <a:t>Are the following aspects of culture material or non-material?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lculat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ys of behav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igious Belief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eboo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Value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alues – the ideas, beliefs, and ways of behaving that are valuable or important to people of a particular cul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are a very important aspect of non-material cul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ctr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your valu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51688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6600"/>
                </a:solidFill>
                <a:latin typeface="Times New Roman"/>
              </a:rPr>
              <a:t>S.A.S. </a:t>
            </a:r>
            <a:r>
              <a:rPr b="1" i="1" lang="en-US" sz="3200" spc="-1" strike="noStrike">
                <a:solidFill>
                  <a:srgbClr val="cc6600"/>
                </a:solidFill>
                <a:latin typeface="Times New Roman"/>
              </a:rPr>
              <a:t>(Smart Anthropologist Students </a:t>
            </a:r>
            <a:r>
              <a:rPr b="1" i="1" lang="en-US" sz="3200" spc="-1" strike="noStrike">
                <a:solidFill>
                  <a:srgbClr val="cc6600"/>
                </a:solidFill>
                <a:latin typeface="Wingdings"/>
                <a:ea typeface="Wingdings"/>
              </a:rPr>
              <a:t></a:t>
            </a:r>
            <a:r>
              <a:rPr b="1" i="1" lang="en-US" sz="40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cc6600"/>
                </a:solidFill>
                <a:latin typeface="Times New Roman"/>
              </a:rPr>
              <a:t>)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oose a country other than Cana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E-Journal: research, describe, and illustrat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 aspects of the country’s material cultur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buildings, food, money et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 aspects of non-material cultur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religion, beliefs, ideas, et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2T00:01:49Z</dcterms:created>
  <dc:creator>Administrator</dc:creator>
  <dc:description/>
  <cp:keywords/>
  <dc:language>en-US</dc:language>
  <cp:lastModifiedBy>Administrator</cp:lastModifiedBy>
  <dcterms:modified xsi:type="dcterms:W3CDTF">2006-02-22T00:36:19Z</dcterms:modified>
  <cp:revision>3</cp:revision>
  <dc:subject/>
  <dc:title>Cultur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261033</vt:lpwstr>
  </property>
</Properties>
</file>